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F0FB-67CF-43B4-B43E-60651EEBE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9557-E12B-4E9E-9CBB-2AD7A92DC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A1EE-4306-4250-A3C4-3066B3FF7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FA3D-E861-4DE5-9D05-E3D59A0AD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CC4A-8278-49AA-A782-98EB45B92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BB0B-38EA-4FCD-9CC8-049E2E907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72B9-05A4-42F3-A99D-95291B6FC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E8D5-0F33-4C5B-A71C-01CDD8F7E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4062-B8D1-41E3-864A-6DD0D6C1E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06E1-A92C-4277-9C66-A77031707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EA73-E31F-4147-BC28-2BD46D323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AF10-DEAF-4CAC-9AFC-E54EDC6A6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D9AAB-DC9C-4EFF-A357-63B3A4036DB7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857160" y="272880"/>
            <a:ext cx="74296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EXERCISES FOR MODULE NINE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8" descr="alphaomega.jpg"/>
          <p:cNvPicPr/>
          <p:nvPr/>
        </p:nvPicPr>
        <p:blipFill>
          <a:blip r:embed="rId2"/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8:Exercises 1/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200160" y="1300320"/>
            <a:ext cx="8943840" cy="43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Section 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Arial"/>
              </a:rPr>
              <a:t>αὐτος δε Ἰησους οὐκ ἐπιστευεν ἑαυτον αὐτοις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Arial"/>
              </a:rPr>
              <a:t>και ἐλεγεν αὐτοις∙ ‘Υμεις ἐκ τουτου του κοσμου ἐστε, ἐγω οὐκ εἰμι ἐκ του κοσμου τουτου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Arial"/>
              </a:rPr>
              <a:t>και τοιαυταις παραβολαις πολλαις ἐλαλει αὐτοις τον λογον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Arial"/>
              </a:rPr>
              <a:t>και ἐρχονται παλιν εἰς Ἱεροσολυμα. και ἐν τῳ ἱερῳ περιπατει ὁ Ἰησους και ἐρχονται προς αὐτον οἱ Ἰουδαιοι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Arial"/>
              </a:rPr>
              <a:t>ἐλεγον οὐν οἱ Ἰουδαιοι προς ἑαυτους∙ Που οὑτος μελλει ἐρχεσθαι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  <a:ea typeface="Arial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Arial"/>
              </a:rPr>
              <a:t>ἐκ του θεου ἐσμεν και ὁ κοσμος ὁλος ἐν τῳ πονηρῳ ἐστιν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8:Exercises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  <a:ea typeface="Arial"/>
              </a:rPr>
              <a:t>2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200160" y="1300320"/>
            <a:ext cx="8943840" cy="44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Arial"/>
              </a:rPr>
              <a:t>και ἐλεγεν αὐτοις∙ Ὑμιν το μυστηριον διδασκω της βασιλειας του θεου∙ ἐκεινοις δε τοις ἐξω ἐν παραβολαις ταυτα λεγω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Arial"/>
              </a:rPr>
              <a:t>ἐλεγεν γαρ ὁ Ἰωαννης τῳ Ἡρῳδῃ∙ Οὐκ ἐξεστιν σοι ἐχειν την γυναικα 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  <a:ea typeface="Arial"/>
              </a:rPr>
              <a:t>[</a:t>
            </a:r>
            <a:r>
              <a:rPr b="0" i="1" lang="en-GB" sz="2600" spc="-1" strike="noStrike">
                <a:solidFill>
                  <a:srgbClr val="ffffff"/>
                </a:solidFill>
                <a:latin typeface="Gentium"/>
                <a:ea typeface="Arial"/>
              </a:rPr>
              <a:t>wife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  <a:ea typeface="Arial"/>
              </a:rPr>
              <a:t>]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Arial"/>
              </a:rPr>
              <a:t>του ἀδελφου σου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This is my commandment: Have love for one another, because you are my disciples</a:t>
            </a:r>
            <a:r>
              <a:rPr b="0" lang="el-GR" sz="2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I am the bread of life</a:t>
            </a:r>
            <a:r>
              <a:rPr b="0" lang="el-GR" sz="2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Jesus says to them, ‘I do not tell you (pl.) by (use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Arial"/>
              </a:rPr>
              <a:t>ἐν</a:t>
            </a:r>
            <a:r>
              <a:rPr b="0" lang="el-GR" sz="2200" spc="-1" strike="noStrike">
                <a:solidFill>
                  <a:srgbClr val="ffffff"/>
                </a:solidFill>
                <a:latin typeface="Arial"/>
                <a:ea typeface="Arial"/>
              </a:rPr>
              <a:t>)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what authority I am doing these things.’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Having received his sight, he was saying, ‘I see people, but they are walking about like trees</a:t>
            </a:r>
            <a:r>
              <a:rPr b="0" lang="el-GR" sz="2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’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8:Exercises 3/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2"/>
          <p:cNvSpPr/>
          <p:nvPr/>
        </p:nvSpPr>
        <p:spPr>
          <a:xfrm>
            <a:off x="200160" y="1300320"/>
            <a:ext cx="894384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Section 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Arial"/>
              </a:rPr>
              <a:t>ἐζητουν οὐν τον Ἰησουν και ἐλεγον μετ’ ἀλληλων ἐν τῳ ἱερῳ∙ Πως ποιει ταυτα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  <a:ea typeface="Arial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Arial"/>
              </a:rPr>
              <a:t>ἐστιν χαρα ἐν ὑμιν δια την ἀγαπην ὑμων τε και ἐμου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Arial"/>
              </a:rPr>
              <a:t>Σαδδουκαιοι 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  <a:ea typeface="Arial"/>
              </a:rPr>
              <a:t>[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Sadduces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  <a:ea typeface="Arial"/>
              </a:rPr>
              <a:t>]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Arial"/>
              </a:rPr>
              <a:t>μεν γαρ λεγουσιν μη εἰωαι ζωην μετα θανατον μητε ἀλλελον, Φαρισαιοι δε διδασκουσιν ταυτα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Arial"/>
              </a:rPr>
              <a:t>καγω δε σοι λεγω ὁτι 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  <a:ea typeface="Arial"/>
              </a:rPr>
              <a:t>[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that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  <a:ea typeface="Arial"/>
              </a:rPr>
              <a:t>]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Arial"/>
              </a:rPr>
              <a:t>συ εἶ Πετρος, και ἐπι ταυτῃ τῃ πετρᾳ 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  <a:ea typeface="Arial"/>
              </a:rPr>
              <a:t>[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rock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  <a:ea typeface="Arial"/>
              </a:rPr>
              <a:t>]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Arial"/>
              </a:rPr>
              <a:t>οἰκοδομησω μου την ἐκκλησιαν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Arial"/>
              </a:rPr>
              <a:t>ἐκραζον φωνῃ μεγαλῃ λεγοντες∙ Ἁγιον ἐστιν το ἀρνιον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Arial"/>
              </a:rPr>
              <a:t>και ἐλεγεν∙ Οὐ θελω το ποτηριον τουτο∙ ἀλλα τουτο θελεις, διο ἐγω δεξομαι αὐτο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8:Exercises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  <a:ea typeface="Arial"/>
              </a:rPr>
              <a:t>4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200160" y="1300320"/>
            <a:ext cx="8943840" cy="50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Arial"/>
              </a:rPr>
              <a:t>και εἰ γαρ εἰσιν ἀλλοι θεοι εἰτε ἐν οὐρανῳ εἰτε ἐπι γης, ἡμιν ἐστιν εἰς 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  <a:ea typeface="Arial"/>
              </a:rPr>
              <a:t>[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one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  <a:ea typeface="Arial"/>
              </a:rPr>
              <a:t>]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Arial"/>
              </a:rPr>
              <a:t> θεος∙ και γε οὑτος ἐστιν ὁ κυριος του οὐρανου και της γης∙ αὐτῳ ἀπα προσκυνησομεν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Arial"/>
              </a:rPr>
              <a:t>τοτε προσκαλεσαμενος αὐτον ὁ κυριος αὐτου λεγει αὐτῳ, Δουλε πονηρε, ποιησω ἐκεινο σοι ἐπει παρεκαλεσας με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The Pharisees therefore were saying to him, ‘You are bearing witness about yourself</a:t>
            </a:r>
            <a:r>
              <a:rPr b="0" lang="el-GR" sz="2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’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The whole earth exists for his glory, so we bless him and give thanks</a:t>
            </a:r>
            <a:r>
              <a:rPr b="0" lang="el-GR" sz="2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If I cast out demons by the authority of God, the reign of God is upon you (pl.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On the one hand, you come together with one another, on the other hand, you persecute one anothe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8:Exercises 5/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285840" y="1414440"/>
            <a:ext cx="857232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Section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Matthew 16.13-18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Arial"/>
              </a:rPr>
              <a:t>Ἐλθὼν 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  <a:ea typeface="Arial"/>
              </a:rPr>
              <a:t>[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Aorist participle of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Arial"/>
              </a:rPr>
              <a:t>ἐρχομαι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  <a:ea typeface="Arial"/>
              </a:rPr>
              <a:t>]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Arial"/>
              </a:rPr>
              <a:t>δὲ ὁ Ἰησοῦς εἰς τὰ μέρη 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  <a:ea typeface="Arial"/>
              </a:rPr>
              <a:t>[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the region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  <a:ea typeface="Arial"/>
              </a:rPr>
              <a:t>]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Arial"/>
              </a:rPr>
              <a:t>Καισαρείας τῆς Φιλίππου ἠρώτα 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  <a:ea typeface="Arial"/>
              </a:rPr>
              <a:t>[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he began to ask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  <a:ea typeface="Arial"/>
              </a:rPr>
              <a:t>]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Arial"/>
              </a:rPr>
              <a:t>τοὺς μαθητὰς αὐτοῦ λέγων 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  <a:ea typeface="Arial"/>
              </a:rPr>
              <a:t>[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saying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  <a:ea typeface="Arial"/>
              </a:rPr>
              <a:t>]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Arial"/>
              </a:rPr>
              <a:t>, Τίνα 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  <a:ea typeface="Arial"/>
              </a:rPr>
              <a:t>[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whom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  <a:ea typeface="Arial"/>
              </a:rPr>
              <a:t>]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Arial"/>
              </a:rPr>
              <a:t>λέγουσιν οἱ ἄνθρωποι εἶναι τὸν υἱὸν τοῦ ἀνθρώπου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  <a:ea typeface="Arial"/>
              </a:rPr>
              <a:t>; </a:t>
            </a:r>
            <a:r>
              <a:rPr b="0" lang="en-GB" sz="2600" spc="-1" strike="noStrike" baseline="30000">
                <a:solidFill>
                  <a:srgbClr val="ffffff"/>
                </a:solidFill>
                <a:latin typeface="Gentium"/>
                <a:ea typeface="Arial"/>
              </a:rPr>
              <a:t>14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  <a:ea typeface="Arial"/>
              </a:rPr>
              <a:t>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Arial"/>
              </a:rPr>
              <a:t>οἱ δὲ εἶπαν 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  <a:ea typeface="Arial"/>
              </a:rPr>
              <a:t>[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they said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  <a:ea typeface="Arial"/>
              </a:rPr>
              <a:t>],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Arial"/>
              </a:rPr>
              <a:t>Οἱ μὲν Ἰωάννην τὸν βαπτιστήν, ἄλλοι δὲ Ἠλιαν, ἕτεροι 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  <a:ea typeface="Arial"/>
              </a:rPr>
              <a:t>[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others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  <a:ea typeface="Arial"/>
              </a:rPr>
              <a:t>]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Arial"/>
              </a:rPr>
              <a:t>δὲ Ἰερεμίαν ἢ ἕνα 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  <a:ea typeface="Arial"/>
              </a:rPr>
              <a:t>[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one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  <a:ea typeface="Arial"/>
              </a:rPr>
              <a:t>]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Arial"/>
              </a:rPr>
              <a:t>τῶν πρφητῶν. 15 λέγει αὐτοῖς, Ὑμεῖς δὲ τίνα με λέγετε εἶναι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  <a:ea typeface="Arial"/>
              </a:rPr>
              <a:t>; </a:t>
            </a:r>
            <a:r>
              <a:rPr b="0" lang="en-GB" sz="2600" spc="-1" strike="noStrike" baseline="30000">
                <a:solidFill>
                  <a:srgbClr val="ffffff"/>
                </a:solidFill>
                <a:latin typeface="Gentium"/>
                <a:ea typeface="Arial"/>
              </a:rPr>
              <a:t>16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  <a:ea typeface="Arial"/>
              </a:rPr>
              <a:t>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Arial"/>
              </a:rPr>
              <a:t>ἀποκριθεὶς 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  <a:ea typeface="Arial"/>
              </a:rPr>
              <a:t>[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in reply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  <a:ea typeface="Arial"/>
              </a:rPr>
              <a:t>]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Arial"/>
              </a:rPr>
              <a:t>δὲ Σίμων Πέτρος εἶπεν 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  <a:ea typeface="Arial"/>
              </a:rPr>
              <a:t>[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said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  <a:ea typeface="Arial"/>
              </a:rPr>
              <a:t>],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Arial"/>
              </a:rPr>
              <a:t>Σὺ εἶ ὁ Χριστὸς ὁ υἱὸς τοῦ θεοῦ τοῦ ζῶντος 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  <a:ea typeface="Arial"/>
              </a:rPr>
              <a:t>[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living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  <a:ea typeface="Arial"/>
              </a:rPr>
              <a:t>]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"/>
          <p:cNvSpPr/>
          <p:nvPr/>
        </p:nvSpPr>
        <p:spPr>
          <a:xfrm>
            <a:off x="285840" y="2008080"/>
            <a:ext cx="864396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 baseline="30000">
                <a:solidFill>
                  <a:srgbClr val="ffffff"/>
                </a:solidFill>
                <a:latin typeface="Gentium"/>
                <a:ea typeface="Arial"/>
              </a:rPr>
              <a:t>17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Arial"/>
              </a:rPr>
              <a:t> ἀποκριθεὶς δὲ ὁ Ἰησοῦς εἶπεν αὐτῷ, Μακάριος εἶ, Σίμων Βαριωνᾶ, ὅτι σὰρξ 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  <a:ea typeface="Arial"/>
              </a:rPr>
              <a:t>[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flesh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  <a:ea typeface="Arial"/>
              </a:rPr>
              <a:t>]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Arial"/>
              </a:rPr>
              <a:t>καὶ αἷμα 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  <a:ea typeface="Arial"/>
              </a:rPr>
              <a:t>[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blood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  <a:ea typeface="Arial"/>
              </a:rPr>
              <a:t>]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Arial"/>
              </a:rPr>
              <a:t>οὐκ ἀπεκάλυψέν σοι ἀλλ’ ὁ πατήρ 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  <a:ea typeface="Arial"/>
              </a:rPr>
              <a:t>[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father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  <a:ea typeface="Arial"/>
              </a:rPr>
              <a:t>]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Arial"/>
              </a:rPr>
              <a:t>μου ὁ ἐν τοῖς οὐρανοῖς. </a:t>
            </a:r>
            <a:r>
              <a:rPr b="0" lang="el-GR" sz="2600" spc="-1" strike="noStrike" baseline="30000">
                <a:solidFill>
                  <a:srgbClr val="ffffff"/>
                </a:solidFill>
                <a:latin typeface="Gentium"/>
                <a:ea typeface="Arial"/>
              </a:rPr>
              <a:t>18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Arial"/>
              </a:rPr>
              <a:t> καγὼ δέ σοι λέγω ὅτι σὺ εἶ Πέτρος, καὶ ἐπὶ ταύτῃ τῇ πέτρᾳ 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  <a:ea typeface="Arial"/>
              </a:rPr>
              <a:t>[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rock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  <a:ea typeface="Arial"/>
              </a:rPr>
              <a:t>]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Arial"/>
              </a:rPr>
              <a:t>οἰκοδομήσω μου τὴν ἐκκλησίαν καὶ πύλαι 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  <a:ea typeface="Arial"/>
              </a:rPr>
              <a:t>[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gates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  <a:ea typeface="Arial"/>
              </a:rPr>
              <a:t>]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Arial"/>
              </a:rPr>
              <a:t>ᾅδου 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  <a:ea typeface="Arial"/>
              </a:rPr>
              <a:t>[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of Hades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  <a:ea typeface="Arial"/>
              </a:rPr>
              <a:t>]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Arial"/>
              </a:rPr>
              <a:t>οὐ καιτσχύσουσιν 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  <a:ea typeface="Arial"/>
              </a:rPr>
              <a:t>[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they will overcome + gen.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  <a:ea typeface="Arial"/>
              </a:rPr>
              <a:t>]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Arial"/>
              </a:rPr>
              <a:t>αὐτῆς.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  <a:ea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8:Exercises 6/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7T14:12:41Z</dcterms:created>
  <dc:creator>Sarah</dc:creator>
  <dc:description/>
  <dc:language>en-US</dc:language>
  <cp:lastModifiedBy>Sarah</cp:lastModifiedBy>
  <dcterms:modified xsi:type="dcterms:W3CDTF">2008-09-07T16:04:31Z</dcterms:modified>
  <cp:revision>21</cp:revision>
  <dc:subject/>
  <dc:title>Slide 1</dc:title>
</cp:coreProperties>
</file>